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1B0-084D-46D5-B1CA-511786E3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206-3A98-432A-BE82-BE1D587F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426-2CDC-44FC-B3DD-CCFDC7DA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D2D-7970-42AE-8E45-4FDE6F11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461-1D6F-46C2-9FC6-CCFA09C6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AE9-520A-4452-82C8-4CC2C441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061-C64F-4951-9B4A-03F3DBC1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C6B-CD6D-4BDC-A2DD-21732476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F4C-D029-4978-A729-69F97C32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452-4B96-4498-B536-9939D7B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93B-6C27-4E27-8C14-C42FBFA7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2C4-F729-4D21-902F-B0E68C4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02FB-A5AD-4342-92AD-DEA957B19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LC Chalk"/>
              </a:rPr>
              <a:t>Классный час на тему:</a:t>
            </a:r>
            <a:br>
              <a:rPr sz="4800"/>
            </a:br>
            <a:r>
              <a:rPr b="1" lang="ru-RU" sz="5400" spc="-1" strike="noStrike">
                <a:solidFill>
                  <a:srgbClr val="ffffff"/>
                </a:solidFill>
                <a:latin typeface="LC Chalk"/>
              </a:rPr>
              <a:t>ОПЯТЬ ДВОЙК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14360" y="5714640"/>
            <a:ext cx="505764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C Chalk"/>
              </a:rPr>
              <a:t>Г. Лангепас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928800" y="642960"/>
            <a:ext cx="74800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АНГЕПАССКОЕ ГОРОДСКОЕ 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СРЕДНЯЯ ОБЩЕОБРАЗОВАТЕЛЬНАЯ ШКОЛА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0040" y="541440"/>
            <a:ext cx="5357880" cy="581796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5857920" y="642960"/>
            <a:ext cx="2786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Ф.П. Реше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«Опять двойк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(1540-е – 1950-е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Как уберечь дневник от двойки и замечани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2643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LC Chalk"/>
              </a:rPr>
              <a:t>Спасибо за участ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5:37:46Z</dcterms:created>
  <dc:creator>Учитель помни это</dc:creator>
  <dc:description/>
  <cp:keywords/>
  <dc:language>en-US</dc:language>
  <cp:lastModifiedBy>Пользователь</cp:lastModifiedBy>
  <dcterms:modified xsi:type="dcterms:W3CDTF">2013-10-28T13:37:15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9990</vt:lpwstr>
  </property>
</Properties>
</file>